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1FB1-5385-41B6-8E6C-514BFF1F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4346-D072-407F-AF5C-CFAE44C1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0371-9640-4821-B16A-BB22B6E0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EB64-9CE1-4681-9BFF-CDFE0E2A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D5BD-1EA7-433F-9846-1F26B76F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1594-A025-409A-9FAD-6137163B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593B-1459-492C-805D-C513FCBE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5EE8-6538-4FE8-9B8E-DC44A106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F7E0-E292-4B2C-BDC6-B6366ED6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F7C9-4492-4EF7-9820-C17C1869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862B-492F-4091-8CF4-19E8C0B9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0164-EEFA-47E8-BDEB-A610F325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072F-77D4-4510-97CA-8521B20D0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ei_enroute_7by l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oad to Financial Mat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Investing &amp; Reti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ves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838080" y="1295280"/>
            <a:ext cx="7620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to reach long term financial goals, such as buying a house or saving for retirement, you mus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 of 7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guideline for determining how many years it will take an investment to double in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alculate the number of years required for an investment to double in value, divide 72 by the annual percentage rate (AP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invest $1,000 at 3 percent interest, how long will it take for your money to dou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f6228"/>
                </a:solidFill>
                <a:latin typeface="Arial"/>
              </a:rPr>
              <a:t>72/3= 24 years to $2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ong will it take $10,000 to double at 8% intere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f6228"/>
                </a:solidFill>
                <a:latin typeface="Arial"/>
              </a:rPr>
              <a:t>72/8= 9 years to $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s the power of compound intere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tir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ep in mind what we have learned about compound interest and the rule of 72, and start saving and investing now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utual Fu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pool on money managed by an investment company and invested in multiple companies, bond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fers investors a variety of goals depending on the fund and its investment charac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ten used to generate income on a regular basis or to preserve an investor’s mon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 nice to your future self and save for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tirem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!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01(k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defined contribution plan offered by a corporation to its employees, which allows employees to set aside tax-deferred income for retirement purposes; in some cases, employers will match their contributio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dividual retirement Arrangement (IRA)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x-deferred arrangement for individuals with earned income and their non-income-producing spouses; growth is not taxed until money is withdrawn; contributions to an IRA are often tax-deducti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oth IR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retirement account funded with after-tax dollars that subsequently grows tax fre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02:21:52Z</dcterms:created>
  <dc:creator>admin</dc:creator>
  <dc:description/>
  <dc:language>en-US</dc:language>
  <cp:lastModifiedBy>Leif Erickson</cp:lastModifiedBy>
  <dcterms:modified xsi:type="dcterms:W3CDTF">2011-07-29T19:09:26Z</dcterms:modified>
  <cp:revision>16</cp:revision>
  <dc:subject/>
  <dc:title>Road to Financial Maturity</dc:title>
</cp:coreProperties>
</file>